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F29-A472-40AA-9A8C-217A8CAF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AFB-432E-4890-A681-B443734D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4D7-2B1C-44C2-8259-9899D58D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3D4-3711-4D6E-8EA3-3707A414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8521-9242-4B2C-ACDF-94677572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66AB-5EDA-4433-A7EB-F8A7AA04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EDEF-FFFA-4D0B-960D-4B44F4D1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C264-B3C4-47B1-8935-DC3CB065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8E2B-BABA-4CE5-9CBD-CC3A6ED2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94CE-E3FB-4DE5-9DED-CC23CA2D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C188-5095-4332-AE4A-707B5255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1DF-C15D-459B-8853-E38CFCC6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84A9-7B2C-4A54-805A-529AFC9B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0987-519A-4E5F-8ABC-DD5DFD42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1136-BA15-4703-8A71-54E4C214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68BE-1B38-48FD-9240-795C7F17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289-C812-4FF5-B3F6-5102D24E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55F7-3422-4684-98EC-9E36DF0C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1E53-E0D9-4790-A31F-FC047FAD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0EDC-9CE4-46CB-AB67-BFE7279F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FA9C-25EE-4A2F-B4DE-157BAC16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E85A-15C8-4BAA-8989-8124280F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64B-1514-4F41-85B4-1626EB48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C4DC-FC99-4ED1-BB67-6595C69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AD48-FB2F-4DEC-9800-5687253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DF4F-6133-47A5-8DAE-124B8531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97D4-83DE-473D-8167-48B43553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ED03-CC64-4247-BAF6-09A52F45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BF0A-4CD4-4FC9-8CBA-BAC3CE83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EE81-C86A-43FB-8A93-395A05E0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46F7-48B4-4B3E-BAD2-17ED6CC2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E5D0C-2EB6-4D10-A2AD-FB523A3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189E-B221-45CB-9066-E705543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AAC-4BE5-4F87-9B99-DB3EDD7F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274B-0603-44BE-AD39-9623F539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D6F6-D0B6-4CE2-B80A-DA7012E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45F4-1358-4DF8-89EA-1186F948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D0FE-D631-485B-888F-7C11958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6CB44-1A6C-4E68-9BEA-57F5453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9F5A-0150-43EB-BB8A-B0501DE8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BD9E-53FE-4750-8F4C-BCD2F167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4E10F-D3A1-4CBE-9576-C9D424FB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DAB58-AAFE-417E-A522-549C04FD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258-00D0-4D82-B473-816D9C83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A13-7CEB-423F-A01C-6879800A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B0C-5380-4C1D-BC0C-AE55682E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CDA-480D-439F-AFF3-D02607F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0BC-F40A-436C-8D23-EDE96A86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30BD-CC2F-400B-A4CD-1FC092E107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3335-3BD4-4B47-8FDA-BF834244AC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8AFC-DCB9-4BF8-848F-D5F95509F79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BA61-EED3-4879-97AE-32FF534A8C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ermutation program to check first if the given number if greater than zero. You should print error message otherw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return value in case of error messag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447920" y="1371600"/>
            <a:ext cx="6629400" cy="3933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 perm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&lt;=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"Erro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in range (1,x+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=result*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5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four numbers and returns the maximum of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80880" y="3124080"/>
            <a:ext cx="4572000" cy="30186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myMax(x,y,z,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 in (y, z, 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n&gt;ma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=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19920" y="3048120"/>
          <a:ext cx="2133360" cy="36576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x=x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y=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y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max =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z=2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N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do 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w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y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max 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8"/>
          <p:cNvSpPr/>
          <p:nvPr/>
        </p:nvSpPr>
        <p:spPr>
          <a:xfrm>
            <a:off x="5800680" y="2362320"/>
            <a:ext cx="19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Max(3,6,2,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3 y=6 z=2 w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3 numbers and returns the minimum of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program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9,5,2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3,4,10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2,-4,8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: Parameter Passin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ass a parameter to a function, define it as a variable in the function declaration e.g. def square(lengt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run time, call the function with the value of this parameter e.g. square(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NameID(name,ID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na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command window wri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NameID(“John”,122898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: return val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function may return a value using return command, e.g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6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u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, you should return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function returns a value, you can use it in assig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   F=mySum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you have defined a variable F that will holds the value that the function mySum() retur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1676520"/>
            <a:ext cx="4572000" cy="4726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mySum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x in (1,2,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mand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Su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=mySu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function to return the summation of numbers in a range starting from x to y, where x and y are parameters passed to your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function with mySum(1,3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answer should be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range is required to be inclusive, your range should be (x,y+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f the range is required to be exclusive, your range should be (x+1,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ault is inclu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600200" y="12193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 mySum(x,y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no in </a:t>
            </a:r>
            <a:r>
              <a:rPr b="0" lang="en-US" sz="3600" spc="-1" strike="noStrike">
                <a:solidFill>
                  <a:srgbClr val="009dd9"/>
                </a:solidFill>
                <a:latin typeface="Arial"/>
              </a:rPr>
              <a:t>rang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600" spc="-1" strike="noStrike">
                <a:solidFill>
                  <a:srgbClr val="009dd9"/>
                </a:solidFill>
                <a:latin typeface="Arial"/>
              </a:rPr>
              <a:t>,y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=sum+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329840" y="4724280"/>
            <a:ext cx="61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you can’t have two variables with the sam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returns the multiplication of numbers in range starting from x to 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function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ul(2,3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3=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ul(2,6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*3*4*5*6=7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838080" y="1752480"/>
            <a:ext cx="6096240" cy="2044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myMul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f6fc6"/>
                </a:solidFill>
                <a:latin typeface="Arial"/>
              </a:rPr>
              <a:t>mul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in range (x,y+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=mul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990720" y="2209680"/>
            <a:ext cx="1523880" cy="53352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8"/>
          <p:cNvCxnSpPr/>
          <p:nvPr/>
        </p:nvCxnSpPr>
        <p:spPr>
          <a:xfrm flipH="1">
            <a:off x="2437560" y="1370520"/>
            <a:ext cx="175356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TextBox 9"/>
          <p:cNvSpPr/>
          <p:nvPr/>
        </p:nvSpPr>
        <p:spPr>
          <a:xfrm>
            <a:off x="4124520" y="990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returns the Permutations of a given number, where the permutation of x is calculated as 1*2*…*x. For example, the permutation of 6 is calculated as 1*2*3*4*5*6=720 and the permutation of 7 is calculated as 1*2*3*4*5*6*7=504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the range of your loop from 1 to th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value should you initialize the permutation with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Information Technologies</cp:lastModifiedBy>
  <dcterms:modified xsi:type="dcterms:W3CDTF">2009-03-18T19:42:33Z</dcterms:modified>
  <cp:revision>218</cp:revision>
  <dc:subject/>
  <dc:title>CPSC 203</dc:title>
</cp:coreProperties>
</file>